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397B8-514F-4252-A6DF-4E2C2BECA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197F-C039-45E0-A248-20A23427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F28AF-E522-433D-9823-C22938A35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EFA42-62C4-4B3C-A060-818AF9699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06BB1-AD32-4CAA-A4F6-76CFEA48F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BFC00-A03F-44AF-96BB-74F2827DF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91FF4-8E7D-4B43-A314-9121AD3E4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AE074-46DB-4279-BFDD-578C97261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8C0BB-B389-443C-938E-62D930EDC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6D19D-1391-46F3-8C10-BE0548ABD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6C064-AD6B-44DB-8024-99AE29BAA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D756-ED66-436C-B3C8-C812BF55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A142E-62BC-4255-A5DB-486FE365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DC47E-681B-46C8-9EB6-66EA0D9F3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2DE62-5C13-4164-B4C6-6FEAAA1CA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9FC06-7B12-4514-AB8B-05A9C57FB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9C64D-6A98-4EC7-97F2-A2153563A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382CC-63B7-45CA-A70D-A575C917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685A4-E61B-4C87-BFE1-00B36AF02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A252-E767-4B1A-B41D-34DDD968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6CBCF-47A3-4CEF-827B-A3E64A3D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3E79-9CCB-4C2B-8F27-9A95E85B6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1C02-0478-47D6-A500-F75E3686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1D9E-3644-4E7F-AA66-435B7DD86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712F-C76E-4403-A769-2E1763D2D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A6D2-E5DE-4460-AF95-E7963F9446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2640" y="2362320"/>
            <a:ext cx="716292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ing Together</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t Plan Presentation</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s. Roeder</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Summary</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unit, students will either take the role of environmentalist or consumerist after reading the novel by Jean Craighead George, There’s an Owl in the Shower, which pertains to the destruction of forests and endangering a particular owl species.  As they work through the unit activities, students analyze research, formulate their own opinion and defend their role regarding the use of natural resources and how that affects the surrounding animals and environmen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iculum-Framing Question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Questi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price of lif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animals rely on their natural habita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ve people negatively affected natural habitats in the pas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animals’ lives more important than peopl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can be done help people and animals co-exist?</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n animals’ habita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makes a species endangered?</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some endangered speci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the some ways people have harmed natural habitats?</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iving Together Project</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will help my students develop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Century skills by:</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
          <p:cNvSpPr/>
          <p:nvPr/>
        </p:nvSpPr>
        <p:spPr>
          <a:xfrm>
            <a:off x="457200" y="3352680"/>
            <a:ext cx="8153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llaborating with peer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Analyzing data about bean plants and drawing conclusions to answer Unit Question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Solving problems and making decisions about their experiment</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mmunicating with others in a newsl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4:08Z</dcterms:created>
  <dc:creator>Eldred Central School</dc:creator>
  <dc:description/>
  <dc:language>en-US</dc:language>
  <cp:lastModifiedBy>Eldred Central School</cp:lastModifiedBy>
  <dcterms:modified xsi:type="dcterms:W3CDTF">2010-06-30T18:29:45Z</dcterms:modified>
  <cp:revision>4</cp:revision>
  <dc:subject/>
  <dc:title>Slide 1</dc:title>
</cp:coreProperties>
</file>